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E452-2D2F-498C-9796-542C71FCF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E416-60D8-4212-83AB-8FB110265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F1FE-26DE-404C-8217-5C6DD02BA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5BF8-95B2-45D9-9827-C77BDF43A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A75-496D-4983-BF45-80AEAB8E3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64CF-FEF3-470F-B486-ED89BC741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419-D0A0-4655-BADD-7866093E4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4253-C00F-4C9D-86BE-22FF000D9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F15-0C88-42F2-890D-AEF487C3E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E85D-F5A4-45C3-9240-0C539848D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C66B-E0D2-49C2-ADB5-7DBE1FDD7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FFC-B038-4721-A839-D1E6DE8F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708-F301-40D2-8F7E-EE7D139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5B0-BBBE-4EF2-91D1-0E1F6549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883-A1C9-44B2-8E46-FBAA0BFF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061-7639-4DF5-AEEE-29B0D198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032-4751-4BA0-BC5F-C3F09DE7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F12-F4EB-4BE4-A427-AB10671D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699-5EEB-427F-B89B-CAD2B92B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451-C21F-47AE-96F5-9FD89992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690-8B10-463A-AC30-2D1A43E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F44-4213-4E6E-BE06-1536BF98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F15-19E1-4992-B2D2-09FEF0D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C8CD-1E2A-409C-8100-4D709DD2C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46 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advantage of sex vs. asex(ual) repro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t least 3 different modes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exu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prod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2 types of human gametes? Where is each produc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and give an example of parthenogene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2529000"/>
                <a:gridCol w="3308400"/>
                <a:gridCol w="3306600"/>
              </a:tblGrid>
              <a:tr h="1062000">
                <a:tc>
                  <a:txBody>
                    <a:bodyPr lIns="57960" rIns="579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57960" rIns="579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97524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uce &amp; deliver sp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marL="387360" indent="-276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uce eg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7360" indent="-276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velopment of ba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7488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in reproductive org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s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singular: test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v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8688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productive cells (Game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permatogenes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SP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ogenes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EG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3028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in horm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stoster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rog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04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le of FSH (follicle-stimulating horm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perm 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gg development (in follic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04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le of LH (luteinizing horm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uce testoster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ease of egg (ovul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762120" y="145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uman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male 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ar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roduce eggs, sex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llic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contain oocyte (egg); release 1/month; produce est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elease of egg from foll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aining follic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rpus luteum (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m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viduct (fallopian tube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terus (baby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rvix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g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mmary glan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secrete milk through nipples in bre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9" descr="46_10_HumFemaleReproAnat-L.jpg"/>
          <p:cNvPicPr/>
          <p:nvPr/>
        </p:nvPicPr>
        <p:blipFill>
          <a:blip r:embed="rId1"/>
          <a:stretch/>
        </p:blipFill>
        <p:spPr>
          <a:xfrm>
            <a:off x="2514600" y="0"/>
            <a:ext cx="6443640" cy="6583320"/>
          </a:xfrm>
          <a:prstGeom prst="rect">
            <a:avLst/>
          </a:prstGeom>
          <a:ln w="0">
            <a:noFill/>
          </a:ln>
        </p:spPr>
      </p:pic>
      <p:sp>
        <p:nvSpPr>
          <p:cNvPr id="90" name="Title 42"/>
          <p:cNvSpPr/>
          <p:nvPr/>
        </p:nvSpPr>
        <p:spPr>
          <a:xfrm>
            <a:off x="0" y="3657600"/>
            <a:ext cx="2895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e 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s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inside scrotum) – produce sperm, sex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miniferous tubu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ke sp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iniferous tubul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pididym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s defere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rethra (pen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m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alkaline fluid w/nutrients,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-650 million sperm/ejac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46_11_HumMaleReproAnat-L.jpg"/>
          <p:cNvPicPr/>
          <p:nvPr/>
        </p:nvPicPr>
        <p:blipFill>
          <a:blip r:embed="rId1"/>
          <a:stretch/>
        </p:blipFill>
        <p:spPr>
          <a:xfrm>
            <a:off x="76320" y="152280"/>
            <a:ext cx="7254720" cy="6583320"/>
          </a:xfrm>
          <a:prstGeom prst="rect">
            <a:avLst/>
          </a:prstGeom>
          <a:ln w="0">
            <a:noFill/>
          </a:ln>
        </p:spPr>
      </p:pic>
      <p:sp>
        <p:nvSpPr>
          <p:cNvPr id="94" name="Title 42"/>
          <p:cNvSpPr/>
          <p:nvPr/>
        </p:nvSpPr>
        <p:spPr>
          <a:xfrm>
            <a:off x="6248520" y="0"/>
            <a:ext cx="2895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rmat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520" y="18288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rm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m cel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permatids in seminiferous tub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ure &amp; add tail in epidym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motile sp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0" y="1828800"/>
            <a:ext cx="4572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efore bi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ogon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iosis - STOP at Prophase I (primary ooc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uber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month, egg in follic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iosis I (secondary oocyte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ertiliz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iosis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ovum + 3 pola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46_12a_Spermatogenesis-L.jpg"/>
          <p:cNvPicPr/>
          <p:nvPr/>
        </p:nvPicPr>
        <p:blipFill>
          <a:blip r:embed="rId1"/>
          <a:stretch/>
        </p:blipFill>
        <p:spPr>
          <a:xfrm>
            <a:off x="993600" y="136440"/>
            <a:ext cx="71568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46_12acSpermatogenesis-L.jpg"/>
          <p:cNvPicPr/>
          <p:nvPr/>
        </p:nvPicPr>
        <p:blipFill>
          <a:blip r:embed="rId1"/>
          <a:stretch/>
        </p:blipFill>
        <p:spPr>
          <a:xfrm>
            <a:off x="1185840" y="1703520"/>
            <a:ext cx="677232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46_12b_Oogenesis-L.jpg"/>
          <p:cNvPicPr/>
          <p:nvPr/>
        </p:nvPicPr>
        <p:blipFill>
          <a:blip r:embed="rId1"/>
          <a:stretch/>
        </p:blipFill>
        <p:spPr>
          <a:xfrm>
            <a:off x="2033640" y="136440"/>
            <a:ext cx="50767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" y="7617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nstrual cyc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humans &amp; other pri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e and relea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ter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receive a fertilized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rous cyc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other mammals; no menstr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4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imal Re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46_01SeaSlugsMating-L.jpg"/>
          <p:cNvPicPr/>
          <p:nvPr/>
        </p:nvPicPr>
        <p:blipFill>
          <a:blip r:embed="rId1"/>
          <a:stretch/>
        </p:blipFill>
        <p:spPr>
          <a:xfrm>
            <a:off x="1447920" y="1828800"/>
            <a:ext cx="61783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240" y="22824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r Phases of Menstrual Cyc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llicular Ph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low estroge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SH = egg develops in ov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vu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Day 14)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H = egg released into Fallopian tu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uteal Ph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esteron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rogen = lining of uterus thickens to prepare for pregn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g travels down Fallopian tube, waits for fer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nstru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no fertilization)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= lining of uterus breaks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and unfertilized egg dischar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2880" y="1142640"/>
            <a:ext cx="381024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 female reproductive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3" descr="46_13_FemaleReproCycle-L.jpg"/>
          <p:cNvPicPr/>
          <p:nvPr/>
        </p:nvPicPr>
        <p:blipFill>
          <a:blip r:embed="rId1"/>
          <a:stretch/>
        </p:blipFill>
        <p:spPr>
          <a:xfrm>
            <a:off x="762120" y="0"/>
            <a:ext cx="394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embryonic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p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n ovi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la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n ute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man Chorionic Gonadotropin (hCG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estrogens in early pregnancy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gnancy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s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regnancy) = 40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Rodents (21 days); Dogs (60 days); Cows (270 days); Elephants (600 day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g lodged in oviduct = ectopic (tubal)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7" descr=""/>
          <p:cNvPicPr/>
          <p:nvPr/>
        </p:nvPicPr>
        <p:blipFill>
          <a:blip r:embed="rId1"/>
          <a:stretch/>
        </p:blipFill>
        <p:spPr>
          <a:xfrm>
            <a:off x="303120" y="1633680"/>
            <a:ext cx="8535960" cy="3590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712800" y="4827600"/>
            <a:ext cx="2703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ovulation to impla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1405080" y="1812960"/>
            <a:ext cx="1369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vage st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1144440" y="3116160"/>
            <a:ext cx="1679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rtilization occ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4638600" y="3705120"/>
            <a:ext cx="576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3052800" y="3889440"/>
            <a:ext cx="1369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3983040" y="2668680"/>
            <a:ext cx="1370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6548400" y="4202280"/>
            <a:ext cx="1370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met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931080" y="3132000"/>
            <a:ext cx="20286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lastocyst impl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6924600" y="1919160"/>
            <a:ext cx="1711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vage contin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9"/>
          <p:cNvSpPr/>
          <p:nvPr/>
        </p:nvSpPr>
        <p:spPr>
          <a:xfrm flipV="1">
            <a:off x="2765520" y="1910880"/>
            <a:ext cx="863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0"/>
          <p:cNvSpPr/>
          <p:nvPr/>
        </p:nvSpPr>
        <p:spPr>
          <a:xfrm flipV="1">
            <a:off x="2787480" y="2517480"/>
            <a:ext cx="511200" cy="66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 flipV="1">
            <a:off x="3336840" y="3098520"/>
            <a:ext cx="158760" cy="79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4172040" y="2873520"/>
            <a:ext cx="34920" cy="18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5238720" y="38257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213600" y="428940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H="1">
            <a:off x="6159240" y="3305160"/>
            <a:ext cx="507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 flipH="1">
            <a:off x="5590800" y="2092320"/>
            <a:ext cx="1082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ion of Zyg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7" descr=""/>
          <p:cNvPicPr/>
          <p:nvPr/>
        </p:nvPicPr>
        <p:blipFill>
          <a:blip r:embed="rId1"/>
          <a:stretch/>
        </p:blipFill>
        <p:spPr>
          <a:xfrm>
            <a:off x="303120" y="2212920"/>
            <a:ext cx="8535960" cy="243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776160" y="4208400"/>
            <a:ext cx="2703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antation of blastoc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665440" y="3913200"/>
            <a:ext cx="1144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astoc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1525680" y="2351160"/>
            <a:ext cx="922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o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2992320" y="3094200"/>
            <a:ext cx="6685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3036960" y="2354400"/>
            <a:ext cx="15382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ner cell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 flipV="1">
            <a:off x="2867040" y="2593800"/>
            <a:ext cx="43488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7066080" y="3836880"/>
            <a:ext cx="12556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ophob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6"/>
          <p:cNvSpPr/>
          <p:nvPr/>
        </p:nvSpPr>
        <p:spPr>
          <a:xfrm flipH="1" flipV="1">
            <a:off x="6451560" y="3822480"/>
            <a:ext cx="57456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8"/>
          <p:cNvSpPr/>
          <p:nvPr/>
        </p:nvSpPr>
        <p:spPr>
          <a:xfrm rot="5400000">
            <a:off x="3044520" y="3321000"/>
            <a:ext cx="196920" cy="1025640"/>
          </a:xfrm>
          <a:custGeom>
            <a:avLst/>
            <a:gdLst>
              <a:gd name="textAreaLeft" fmla="*/ 0 w 196920"/>
              <a:gd name="textAreaRight" fmla="*/ 70920 w 196920"/>
              <a:gd name="textAreaTop" fmla="*/ 26640 h 1025640"/>
              <a:gd name="textAreaBottom" fmla="*/ 99900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Postfertiliza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cental Cir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0" descr="46_16PlacentalCirc-L.jpg"/>
          <p:cNvPicPr/>
          <p:nvPr/>
        </p:nvPicPr>
        <p:blipFill>
          <a:blip r:embed="rId1"/>
          <a:stretch/>
        </p:blipFill>
        <p:spPr>
          <a:xfrm>
            <a:off x="304920" y="1676520"/>
            <a:ext cx="85471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Fetal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46_17_HumFetalDevelop-L.jpg"/>
          <p:cNvPicPr/>
          <p:nvPr/>
        </p:nvPicPr>
        <p:blipFill>
          <a:blip r:embed="rId1"/>
          <a:stretch/>
        </p:blipFill>
        <p:spPr>
          <a:xfrm>
            <a:off x="298440" y="1809720"/>
            <a:ext cx="8547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2" descr="46_18PosFeedbackLabor-L.jpg"/>
          <p:cNvPicPr/>
          <p:nvPr/>
        </p:nvPicPr>
        <p:blipFill>
          <a:blip r:embed="rId1"/>
          <a:stretch/>
        </p:blipFill>
        <p:spPr>
          <a:xfrm>
            <a:off x="974880" y="314280"/>
            <a:ext cx="73310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09720" y="19047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hree Stages of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0" descr="46_19_LaborStages-L.jpg"/>
          <p:cNvPicPr/>
          <p:nvPr/>
        </p:nvPicPr>
        <p:blipFill>
          <a:blip r:embed="rId1"/>
          <a:stretch/>
        </p:blipFill>
        <p:spPr>
          <a:xfrm>
            <a:off x="228600" y="0"/>
            <a:ext cx="504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“the Pill”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56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ill” is an oral contracep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stro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geste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available in 19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effect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event ov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effec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ckens cervical mucus – slows down spe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ns uterus lining – prevent implantation of fertilized eg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ctive pill for 21 days, inactive pills for 7 days (“period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medical u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dication for mild/moderate ac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painful menstr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 polycystic ovary syndrome (PC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rect irregular menstrual cyc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 risk of ovarian and endometrial canc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http://www.babble.com/CS/blogs/strollerderby/2009/04/ThePill.jpg"/>
          <p:cNvPicPr/>
          <p:nvPr/>
        </p:nvPicPr>
        <p:blipFill>
          <a:blip r:embed="rId1"/>
          <a:stretch/>
        </p:blipFill>
        <p:spPr>
          <a:xfrm>
            <a:off x="6400800" y="914400"/>
            <a:ext cx="2476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you must k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rmonal control of the menstrua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oogenesis and spermatogenesis dif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281916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chanisms of some contraceptive met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Content Placeholder 4" descr="46_20_Contraceptives-L.jpg"/>
          <p:cNvPicPr/>
          <p:nvPr/>
        </p:nvPicPr>
        <p:blipFill>
          <a:blip r:embed="rId1"/>
          <a:stretch/>
        </p:blipFill>
        <p:spPr>
          <a:xfrm>
            <a:off x="3657600" y="0"/>
            <a:ext cx="518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452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ex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2280" y="160020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Advantage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: FAST, if env. is 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Calibri"/>
              </a:rPr>
              <a:t>Fission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: parent separates into 2+ individuals of same si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Calibri"/>
              </a:rPr>
              <a:t>Budding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: outgrowths from parent (eg. cnidarians, tunica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Calibri"/>
              </a:rPr>
              <a:t>Fragmentation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: breaking of body into pieces, form into adults by regeneration (eg. sea stars, sponges, cnidaria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Calibri"/>
              </a:rPr>
              <a:t>Parthenogenesis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: female produces eggs that develop w/o fertilization (eg. male bees – haploi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837720"/>
            <a:ext cx="43434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x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Genetic d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Advantage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: ability to change pop. when env.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usion of haploid gam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gg (Ovum) + Sperm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Zyg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ssion - Sea Anem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xual Reproduction – Fr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External fertil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9" descr="46_06ExternalFertFrog-L.jpg"/>
          <p:cNvPicPr/>
          <p:nvPr/>
        </p:nvPicPr>
        <p:blipFill>
          <a:blip r:embed="rId1"/>
          <a:stretch/>
        </p:blipFill>
        <p:spPr>
          <a:xfrm>
            <a:off x="4645080" y="2660760"/>
            <a:ext cx="404172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8" descr="46_02SeaAnemone-L.jpg"/>
          <p:cNvPicPr/>
          <p:nvPr/>
        </p:nvPicPr>
        <p:blipFill>
          <a:blip r:embed="rId2"/>
          <a:stretch/>
        </p:blipFill>
        <p:spPr>
          <a:xfrm>
            <a:off x="457200" y="2824200"/>
            <a:ext cx="4040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productive Cycles and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v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release of mature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roduced when survival is most lik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monal changes influenced by day length, season temp, rainfall or luna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rmaphrodit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oth M/F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ssile/burrowing animals - barnacles, parasites (tapeworms), earthw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x rever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ex change during its life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uehead wrasse (reef fi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404028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x reversal in a sequential hermaphrodite. Wrasses (reef fish) born female, but oldest, largest individuals complete their lives as m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2520" y="5029200"/>
            <a:ext cx="3581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henogenesis in female Blacktip Shark: egg fuses with a polar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46_04WrasseSexReversal_UP"/>
          <p:cNvPicPr/>
          <p:nvPr/>
        </p:nvPicPr>
        <p:blipFill>
          <a:blip r:embed="rId1"/>
          <a:stretch/>
        </p:blipFill>
        <p:spPr>
          <a:xfrm>
            <a:off x="457200" y="2666880"/>
            <a:ext cx="4040280" cy="26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images.sciencedaily.com/2008/10/081010173054-large.jpg"/>
          <p:cNvPicPr/>
          <p:nvPr/>
        </p:nvPicPr>
        <p:blipFill>
          <a:blip r:embed="rId2"/>
          <a:stretch/>
        </p:blipFill>
        <p:spPr>
          <a:xfrm>
            <a:off x="4724280" y="1447920"/>
            <a:ext cx="4041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tilization = sperm + eg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ternal Fer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g shed by female, fert. by male in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cues / courtship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# game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w surv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. fish, amphib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nal Fer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rm deposited in female reprod. 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perativ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wer gametes, fewer zygo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eater surv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9"/>
          <p:cNvCxnSpPr/>
          <p:nvPr/>
        </p:nvCxnSpPr>
        <p:spPr>
          <a:xfrm flipH="1">
            <a:off x="5637960" y="4723200"/>
            <a:ext cx="762840" cy="4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12"/>
          <p:cNvCxnSpPr/>
          <p:nvPr/>
        </p:nvCxnSpPr>
        <p:spPr>
          <a:xfrm>
            <a:off x="6400440" y="4723920"/>
            <a:ext cx="610200" cy="4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17"/>
          <p:cNvSpPr/>
          <p:nvPr/>
        </p:nvSpPr>
        <p:spPr>
          <a:xfrm>
            <a:off x="4419720" y="520056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ernal D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gh egg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. reptiles, birds,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6553080" y="52005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nal D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arental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. placentals, sharks, some 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volution of sexual re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st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gon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g/sperm develop in undifferentiated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d into coelom, shed into en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st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638320" y="2209680"/>
            <a:ext cx="35053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ct gonads (organs that produce game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y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4"/>
          <p:cNvSpPr/>
          <p:nvPr/>
        </p:nvSpPr>
        <p:spPr>
          <a:xfrm>
            <a:off x="2971800" y="1752480"/>
            <a:ext cx="2438280" cy="457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5:22:19Z</dcterms:created>
  <dc:creator>Chris Nancy Chou</dc:creator>
  <dc:description/>
  <dc:language>en-US</dc:language>
  <cp:lastModifiedBy>Chris Nancy Chou</cp:lastModifiedBy>
  <dcterms:modified xsi:type="dcterms:W3CDTF">2011-04-06T07:14:28Z</dcterms:modified>
  <cp:revision>29</cp:revision>
  <dc:subject/>
  <dc:title>Slide 1</dc:title>
</cp:coreProperties>
</file>